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FDD-2D75-489C-9017-B0BC29D5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632-AB75-4FB6-AABB-D670DA64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5C6-70B4-4B3B-B734-F37A6FE3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B28-AFEE-4CF2-84D0-2B73F1D1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25D-9434-4187-802D-DDB628DB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5B4-2634-470A-A0DE-2203DD8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A69-BD73-4FC4-BB81-BAB54F06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56C-3D58-4853-A9CA-F87830C7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6C9-0396-4041-B05C-F7CB2A6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A41-90B7-4DA5-8275-E1936C2C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A04-DC9C-4517-A5E9-C2A7BE4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345-F0B0-410B-9129-27CD9BB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2092-64A0-4ABB-B400-F35FF3912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227808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558720"/>
            <a:ext cx="1981080" cy="1922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58680"/>
            <a:ext cx="2416320" cy="321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819520" y="533520"/>
            <a:ext cx="153504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85800" y="3657600"/>
          <a:ext cx="3048120" cy="299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657600"/>
                    <a:ext cx="30481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81480" y="3686040"/>
          <a:ext cx="3441960" cy="27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686040"/>
                    <a:ext cx="34419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0"/>
          <a:ext cx="365760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6576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76920" y="380880"/>
          <a:ext cx="38163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80880"/>
                    <a:ext cx="38163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3733920"/>
            <a:ext cx="4248000" cy="27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410080" y="3886200"/>
            <a:ext cx="3048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2724120" cy="3333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30720" y="457200"/>
            <a:ext cx="3479760" cy="267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10080" y="350532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8288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9240" y="4114800"/>
            <a:ext cx="1914480" cy="227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62320" y="4332240"/>
            <a:ext cx="1981080" cy="183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514600" cy="2144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724280" y="4038480"/>
            <a:ext cx="183996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105520" y="457200"/>
            <a:ext cx="3632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35000"/>
            <a:ext cx="3276720" cy="2913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267440" cy="269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757680" cy="2876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4290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76320"/>
            <a:ext cx="6629400" cy="6629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7632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676520"/>
            <a:ext cx="57150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00600" y="4614840"/>
          <a:ext cx="160020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614840"/>
                    <a:ext cx="1600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6880" y="4440240"/>
          <a:ext cx="161316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440240"/>
                    <a:ext cx="16131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867280" y="2664000"/>
          <a:ext cx="1638360" cy="15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664000"/>
                    <a:ext cx="16383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2646360"/>
          <a:ext cx="1676160" cy="13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646360"/>
                    <a:ext cx="16761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1676520" y="1828440"/>
            <a:ext cx="5715000" cy="335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876920" y="795240"/>
          <a:ext cx="160020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795240"/>
                    <a:ext cx="16002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2590920" y="685800"/>
            <a:ext cx="1733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10-02-17T16:46:17Z</dcterms:modified>
  <cp:revision>16</cp:revision>
  <dc:subject/>
  <dc:title>Slide 1</dc:title>
</cp:coreProperties>
</file>